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323486-8460-4CC9-99AC-E557EDEE820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977E3B-B1F2-4EC0-AD3B-DC4AA3F360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740296-CE1C-4865-A90A-4A8080CC75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18E579-FA89-48A5-8DED-5696FDB945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8C0B13-A6D4-492C-BB26-BE3D66F6A8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41BF49-323C-4C86-9FB9-4989E6AEA3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CC25A8-000D-4917-8214-0A6AD862F0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9F7A87-0E43-42CE-A02C-95E9D9CA5D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917FD1-8B25-4868-9A14-15BBDE8EDA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B8BA8A-538D-42BD-9DAA-931C37B243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12F56D-D90F-40E0-ACCB-84FC543B68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19FAA5-C1C0-4029-9566-2CFC19532C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DE84BA-B1D1-417A-8953-E6E008A942B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1BD723-822A-435A-BA74-14B86626CA31}" type="datetime3">
              <a:rPr b="0" lang="en-US" sz="1400" spc="-1" strike="noStrike">
                <a:solidFill>
                  <a:srgbClr val="ffffff"/>
                </a:solidFill>
                <a:latin typeface="Times New Roman"/>
              </a:rPr>
              <a:t>July 28,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B2EF7C-2A9C-4BE8-99B3-D5919137B6D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32F6D92C-E6E2-4F8F-A029-5B27D061538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41016B92-215F-4300-A345-1F5449B8993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065052BB-AE29-43A7-BC13-6BB27BC2C22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26F6BB9F-D7FD-4233-814E-4AF90529FB9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1C5A3CAB-1E68-455C-B508-E1EEE1E26E8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3E4B37E3-AC92-493A-BB7F-F8D343237A62}"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140FF437-9D50-4FE7-83EC-D7BCFA877C90}"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20AB081A-111F-405E-AF19-F34E9AEE1A9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DEAB6C78-3CA1-4AD1-A1D4-AE0BEB3D84F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39D92317-F35E-477F-9D9F-8B95593A55D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B857B295-AFF2-407E-9B0A-F00A1CA6D6B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193F4971-6A52-4890-86EE-13122E76C55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2B3AB3A2-5E0D-458B-997B-49E81B6DE4E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A6104548-D5B7-4978-9290-91B2E111CDB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